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13B5-5B96-49C8-BC87-78E44A15A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E7C6-AD7E-4E86-8478-E14146A41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17EB-7224-4A24-9FFF-72BB7BDE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443-54A4-479F-A6EB-AD4C98F0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CE07-277B-4361-BE0E-FB3492A9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C4A-AC3E-4DB0-90AA-E06DE8E0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CB0-E4DB-4F1D-A7DB-8646DC78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8520-4168-4E60-8A74-290B1229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BD95-29F6-4BC5-AD34-1F3EDC7E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11DA-6005-4B4B-BADB-345C830F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4C5D-7796-460E-BAF9-498B8B14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60B-73F5-4184-8B37-D96E3F95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4FD0-83D8-433A-8DA0-032A2EE1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9960-A7CC-4A61-903A-B52B181B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6E8A-1789-463F-96AB-600EBD79C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orld is O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457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87720" y="487692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40360" y="15238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512160" y="48006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er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664440" y="31240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er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512160" y="15238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407640" y="167652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er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6407640" y="31240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er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6407640" y="45720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er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6331320" y="548640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er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20:17:28Z</dcterms:created>
  <dc:creator>STEVE</dc:creator>
  <dc:description/>
  <dc:language>en-US</dc:language>
  <cp:lastModifiedBy>Swan,Stephen Bryan</cp:lastModifiedBy>
  <dcterms:modified xsi:type="dcterms:W3CDTF">2013-03-26T22:32:11Z</dcterms:modified>
  <cp:revision>4</cp:revision>
  <dc:subject/>
  <dc:title>Opener 2</dc:title>
</cp:coreProperties>
</file>